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87B-659E-4B2C-9483-2BB047DD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B7A-7DEE-475E-A827-5970615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614-AA19-411C-ADE4-708C2E26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42A-9BF7-43BF-A622-BFAA2901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BFEE-3357-4A5D-874B-75957275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39C1-AC02-4295-8445-917C9EE5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861-CE3B-44A6-8555-B254DED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696A-662A-4708-8D06-455FE41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195-DBE1-44AD-B65B-9C714DA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A297-8656-4A8F-88F2-BB2BFA09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F826-7370-40BF-AD19-A7CEF72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6F0-5D69-470B-A29F-1F85C114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92B3-9F86-440C-B74D-95ED44A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40C3-CAAF-403A-8CD9-795F921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2DF8-E8CD-415E-A527-62A58C67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0688-5045-4EBD-9DC2-456F41F9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A4E-0DFC-4259-9ED4-4E58BDEA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168-8766-4563-8251-4BC188C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E95-93D4-4F36-B36C-0F7D07C4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B3E-80CF-4BC0-B268-9C3AEEB0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74D-28BD-4FFF-87A1-A2F3191E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66A-6C68-4315-AB96-7785098D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BF9-07F5-4FA2-AE2D-E233988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ABB-6CAC-4252-A3E1-6C105D8C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5BA7-4437-4DC4-A178-D1B5122B2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017-8856-427A-96F3-B38CC76A6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sis or Comb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r more substances chemically combine to become one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+   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  +  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_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724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8862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886200"/>
            <a:ext cx="228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38862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3886200"/>
            <a:ext cx="228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2004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ubstance breaks down into two or more sub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+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4956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44956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6483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54100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46483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ingle element switches placement with the anion or cation of another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 +   C                           AC   +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                                     +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l   +  K                    Na   +   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7242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4648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4648320"/>
            <a:ext cx="304920" cy="304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46483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648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8098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48006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63868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ations and anions of two different compounds switch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  +      CD                         AD       +     C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+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     +   MgOH                KOH     +  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45720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5720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572000"/>
            <a:ext cx="304920" cy="304920"/>
          </a:xfrm>
          <a:prstGeom prst="plus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4572000"/>
            <a:ext cx="304920" cy="304920"/>
          </a:xfrm>
          <a:prstGeom prst="plus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572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45720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457200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3809880"/>
            <a:ext cx="1676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7242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563868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457200" y="3808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+ K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+ 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304920" y="228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) 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152280" y="9907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ervation of ma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ys that you mus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al amounts of reactants an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never change the chemical formulas in the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DO NOT CHANGE THE CHEMICAL FORMULAS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only alter the equation to balance it by add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effici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big numbers in from of a chemical formula to make everything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99800" y="4800600"/>
            <a:ext cx="891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____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9144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8380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2666880" y="685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0" y="7621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743200" y="533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5943600" y="533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1026000" y="609480"/>
            <a:ext cx="673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2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2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000080" y="2766960"/>
            <a:ext cx="7321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Chemical Reaction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-426960" y="1962000"/>
            <a:ext cx="10120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380880" y="380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ctice Equation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530640" y="1066680"/>
            <a:ext cx="693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+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→    Sn +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3581280"/>
            <a:ext cx="883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   +   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   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+  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55440" y="2286000"/>
            <a:ext cx="521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   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N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+     H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→     NH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882000" y="4876920"/>
            <a:ext cx="78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Na(s) +    HCl(aq) →     NaCl(aq) + 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228600" y="5335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  +     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  -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 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+   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28600" y="17524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+      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-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  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   +        Fe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29718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NaCl(aq) +    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aq) →    Na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aq) +      AgCl(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255"/>
                </a:solidFill>
                <a:latin typeface="Verdana"/>
              </a:rPr>
              <a:t>A) Chemical Reac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196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mical React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process that turns one set of chemical substances into another one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2196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 reactions are studied by specialized scientist calle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mist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study all thing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219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oine-Laurent de Lavois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to be the father of modern chemistry, thanks to his intensive study of reactions during the mid 170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Was the first to publish the law of conservation of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The total mass of things that go into  a reaction(products) equals the total mass of all things that are produced during the reaction(produc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Mass is neither created or destroyed in a RXN, it only changes for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www.general-anaesthesia.com/images/antoine-lavoisier.jpg"/>
          <p:cNvPicPr/>
          <p:nvPr/>
        </p:nvPicPr>
        <p:blipFill>
          <a:blip r:embed="rId1"/>
          <a:stretch/>
        </p:blipFill>
        <p:spPr>
          <a:xfrm>
            <a:off x="1295280" y="0"/>
            <a:ext cx="677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 we know when a chemical reaction has taken pl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685800" y="12952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orb or Release of Heat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gets hot or gets cold or releases ligh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 of a Ga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can you smell it, like something rott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do you see bubbles in the liqu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tion of a solid, called a precipit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t “rains” or precipitates out of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t is usually a different col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http://www.ric.edu/faculty/ptiskus/chemical/index_files/fireworks-sparkler.jpg"/>
          <p:cNvPicPr/>
          <p:nvPr/>
        </p:nvPicPr>
        <p:blipFill>
          <a:blip r:embed="rId1"/>
          <a:stretch/>
        </p:blipFill>
        <p:spPr>
          <a:xfrm>
            <a:off x="4640400" y="4343400"/>
            <a:ext cx="4503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emical Vs. Physical Chan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hanges are only concerned with changes in energy or states of matter ( S,L,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and ending material are the same thing, thought they may look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- Ice melting, Water evapor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04920" y="2286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) Writing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380880" y="990720"/>
            <a:ext cx="815364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 clear aqueous solution of potassium iodide is mixed with a clear aqueous solution of lead nitrate it produces(yields ) a clear solution of potassium nitrate and a yellow solid precipitate called lead(II) iod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Double Bracket 3"/>
          <p:cNvSpPr/>
          <p:nvPr/>
        </p:nvSpPr>
        <p:spPr>
          <a:xfrm>
            <a:off x="380880" y="3505320"/>
            <a:ext cx="335304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305000" y="434340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Double Bracket 5"/>
          <p:cNvSpPr/>
          <p:nvPr/>
        </p:nvSpPr>
        <p:spPr>
          <a:xfrm>
            <a:off x="4038480" y="3505320"/>
            <a:ext cx="304812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4800600" y="4343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ymbols Used in an Equ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means gaseous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) means liquid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means solid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means dissolved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yield (produ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267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ting Word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silver nitrate reacts with solid copper metal to form solid silver and copper (II) nit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00:37Z</dcterms:created>
  <dc:creator>Administrative Services</dc:creator>
  <dc:description/>
  <dc:language>en-US</dc:language>
  <cp:lastModifiedBy>Administrative Services</cp:lastModifiedBy>
  <dcterms:modified xsi:type="dcterms:W3CDTF">2011-10-17T13:32:09Z</dcterms:modified>
  <cp:revision>2</cp:revision>
  <dc:subject/>
  <dc:title>Slide 1</dc:title>
</cp:coreProperties>
</file>